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689-65C6-4D6A-B3E5-70F8B21A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BAD-7DF3-4753-ACB1-91C5E1E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410-91E4-485A-806A-B40E4CCE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F2E-A5B0-4ED1-88FB-5D9AA2C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40B-9E2F-448F-8EF4-8616BEB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228-6CED-426F-825C-F972DFD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80E-5048-4EF5-AF41-EE6D3C00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F33-4CE9-4B23-A174-94C04A4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DB6-30D0-4A21-82E1-2BA0173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EDB-1884-4F4F-9D21-7CFF4DF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117-A0E0-42CF-AB0F-E4D78F4F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3F-5A4D-44BF-B135-1230F2A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579E-E76A-46BB-854F-D850690CC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4-1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519120" y="1714680"/>
            <a:ext cx="798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Д  ИЗЛОЖЕНИЕМ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 НАЧАЛЬНОЙ 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3321720" y="5300640"/>
            <a:ext cx="527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зработала Пермякова Анна Валерьев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читель начальных классов 1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ОУ «Средняя школа № 45» ПК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245600" y="372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Анализ структуры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7840" y="1144440"/>
            <a:ext cx="8445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этого приёма работы - показать, что текст представляет собой не только тематическое и смысловое, но и структурное единство, предупредить возможные ошибки при воспроизведении текста. Ученики в процессе анализа убеждаются, что тексты делятся на части (подтемы, микротемы), каждая из которых так или иначе связана с общей темой и основной мыслью текста, а также наблюдают способы связи частей и предложений в тексте, разнообразие способов выражения этой 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243440" y="44460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оставление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11444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ставление плана - средство лучшего осмысления, запоминания текста и организация его вос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28464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е к плану будет зависеть от вида  изложения. Так план подробного изложения должен отражать не только последовательность событий, фактов, но и основную мысль текста, словесные формулировки заголовков должны соответствовать стилю исходного тек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829080" y="271440"/>
            <a:ext cx="5609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Устный пересказ текста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0920" y="836640"/>
            <a:ext cx="86756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ный пересказ, полный или частичный, может быть использован при проведении всех видов изложений. Особенно эффективен устный пересказ при подготовке выборочных и сжатых изложений, когда ученикам приходится проводить значительную самостоятельную работу по оформлению собранного материала и составлению нов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71680" y="928800"/>
            <a:ext cx="701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Написание текста 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57120" y="1571760"/>
            <a:ext cx="856944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28760" y="22147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Самопроверка</a:t>
            </a:r>
            <a:r>
              <a:rPr b="1" i="1" lang="ru-RU" sz="1800" spc="-1" strike="noStrike" u="sng">
                <a:solidFill>
                  <a:srgbClr val="33cc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и совершенствование текста учащим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7-13"/>
          <p:cNvPicPr/>
          <p:nvPr/>
        </p:nvPicPr>
        <p:blipFill>
          <a:blip r:embed="rId1"/>
          <a:stretch/>
        </p:blipFill>
        <p:spPr>
          <a:xfrm>
            <a:off x="-357120" y="-20520"/>
            <a:ext cx="9501120" cy="7146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1000080" y="5000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Проверка изложения уч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4920" y="158688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оведения последующей работы над ошибками учитель анализирует изложения и классифицирует их с учё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сти и последовательности передачи содержания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шибок в построении предло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авильного употребления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грубых и типичных орфографических и пунктуацион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7-13"/>
          <p:cNvPicPr/>
          <p:nvPr/>
        </p:nvPicPr>
        <p:blipFill>
          <a:blip r:embed="rId1"/>
          <a:stretch/>
        </p:blipFill>
        <p:spPr>
          <a:xfrm>
            <a:off x="-357120" y="-20520"/>
            <a:ext cx="9501120" cy="7146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1000080" y="5000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14200" y="157176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одится на следующем уроке. Необходимо сравнить написанные учащимися изложения с целью выяснения недочётов в содержании и языке детских работ, разобрать орфографически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17240" y="2998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ценивание из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981000"/>
            <a:ext cx="84960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ценка 5 ставит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держание работы полностью соответствует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ет фактических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держание излагается последователь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бота отличается богатством слова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остигнуто стилевое единство и выразительность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опускается 1 недочет в содержании, 1-2 речевых ошибки и 1 граммат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317240" y="4140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ценивание из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0520" y="560520"/>
            <a:ext cx="88200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ценка 4 ставит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работы в основном соответствует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держание в основном достоверно, единичные фактические нето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рушение последовательности в изложении мыс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лексический и грамматический строй речи разнообраз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тиль работы отличается единством и достаточной выраз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опускается не более 2 недочетов в содержании, 3-4 речевых недочета, 2 грамматических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317240" y="2998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ценивание из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765000"/>
            <a:ext cx="849600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ценка 3 ставит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меются существенные отклонения от 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остоверность в главном, но есть фактические нето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опущены отдельные нарушения последовательности из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еден словарь, однообразны синтаксические конструкции, неправильное словоупотреб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тиль работы не отличается единством, речь недостаточно выразите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опускаются 4 недочета в содержании, 5 речевых и 4 грамматически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317240" y="2998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ценивание из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836640"/>
            <a:ext cx="84960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ценка 2 ставит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екст не соответствует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опущено много неточ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рушена последовательность изложения во всех частях, связь между ними, не соответствует пла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еден словар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рушение стилевого единства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опускаются 6 недочетов в содержании, 7 речевых и 7 грамматически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24000" y="2060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71680" y="1071720"/>
            <a:ext cx="819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 виды  раб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ных на развитие связной письменной речи, –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изложения и сочи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28760" y="981000"/>
            <a:ext cx="835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ложе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 учебной деятельн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язанна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воспроизвед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тового тек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4000" y="1268280"/>
            <a:ext cx="8820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ёт возможность проконтролировать уровень грамотности учащихся и их речевые возможност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особствует  связному  выстраиванию  текста на заданную те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передаче чужого текста максимально точно воспроизводится его словесный ряд и синтаксическая  структу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 обращения к тем или иным законам правопис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ширение  лексического  запаса, использование  орфографических  и пунктуационных  сведений  и навык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50880" y="33336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еимущества 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95280" y="476280"/>
            <a:ext cx="84978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лассификация по Ладыженской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1) по отношению к объему исходного текст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дробные и сжатые из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2) по отношению к содержанию исходного текст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ные, выборочные, с дополнительным задание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) по осложненности языковыми заданиям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лексическим, грамматическим, стилистическим и т.д. задания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4) по восприятию исходного текста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зложе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читанного (воспринятого зрительно), услышанного (воспринятого на слух), воспринятого и на слух и зрительн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5) по степени знакомства с исходным текстом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зложение незнакомого текста и знакомого, известного учащим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461600" y="515880"/>
            <a:ext cx="52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этап: подгото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9640" y="1125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помочь школьникам осмыслить текст и подготовить их к переск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9240" y="2071800"/>
            <a:ext cx="5656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ступительная 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приятие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Беседа по содержанию текста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Анализ структуры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оставление плана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Устный пересказ текста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205640" y="179280"/>
            <a:ext cx="44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Вступительная 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23720" y="698400"/>
            <a:ext cx="824868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подготовить учащихся к восприятию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уг вопросов зависит от цели изложений, сложности содержания текста и этапа обучения, могут быть связаны как с условиями создания текста, его автором, самим текстом, так и с жизненным опытом уче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беседу могут быть включены слова и словосочетания из текста, употребление которых вызовет затруднение учащихся. Для объяснения используются различные типы словарей: толковый, словарь синонимов, словарь антонимов, фразеологиче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елательно в процессе беседы использовать различные наглядные материалы: книги, портреты, презентации, магнитофонные записи и т.д., что позволит не только лучше подготовить учащихся к адекватному восприятию содержания, но и создаст необходимый эмоциональный настрой на у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338840" y="40464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cccc"/>
                </a:solidFill>
                <a:uFillTx/>
                <a:latin typeface="Arial"/>
              </a:rPr>
              <a:t>Восприятие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19120" y="1073160"/>
            <a:ext cx="83739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ё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ение текста учи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ли прослушивание магнитофонной запис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чтение текста про себя учениками (в том случае, когда текст перед глаз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параллельное прослушивание текста и чтение про себя (комбинированный прием рабо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390680" y="51588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Беседа по содержанию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47840" y="1289160"/>
            <a:ext cx="844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еда должна помочь глубже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нять текс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к тематическое смысловое целое,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пределить т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новную мыс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установку автора,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ыясн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ие факты являются главными определяющими, каковы причинно-следственные связи и 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должен не только увидеть авторскую позицию, но и уметь обосновать свое отношение к воспринят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10:12:53Z</dcterms:created>
  <dc:creator>Valmond@outlook.com</dc:creator>
  <dc:description/>
  <dc:language>en-US</dc:language>
  <cp:lastModifiedBy>User</cp:lastModifiedBy>
  <dcterms:modified xsi:type="dcterms:W3CDTF">2019-06-13T02:05:00Z</dcterms:modified>
  <cp:revision>22</cp:revision>
  <dc:subject/>
  <dc:title>Слайд 1</dc:title>
</cp:coreProperties>
</file>